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C7F-25CD-48B8-B9A8-4CF902FF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C94-C232-4C90-B880-14CDC1E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099-1D50-497E-A652-86EDE4FD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83F-637A-453B-9251-D5E2013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8C2-335C-4A7E-9C27-4D11380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A58-35BD-4CDF-956E-0CBCAE7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B3A-BED3-4D38-83D4-CDAF361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7BD-06BD-4347-B877-44BE0F4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C60-7BD9-4747-B789-F69EFAE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A3C-2EF4-46E0-9A26-C20CB19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984-4C24-4673-94E4-2FE19AA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70C-83B5-4478-9DEF-78C7D34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F0E-22B9-4173-9068-BA61BC5835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E794-4945-4CC8-810C-9FE6C212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4F9-A114-4810-9CEA-BEE0A58EBF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85D2F-BFC0-4595-9B35-2F58F53C4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Hovedregel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t skal alltid brukes systemkor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Par som mangler fullstendig utfylt systemkort tildeles prosedyrestraff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Tillatte systemkor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ltakerne kan fritt benytte NBF sitt standard systemkort , WBF sine systemkort   eller andre fullstendige kort med minst samme opplysninger på forsiden som NBF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Utfylling av systemkort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være fullstendig utfylt, det skal ha (eller være merket med) rett farge og eventuelle HUK skal være beskrevet på eget brunt vedlegg sammen med et forslag til forsvar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En meldings mulige fordeling skal beskrives ved å angi  grensene for fargelengder, og styrkegrensene skal angis ved Hp-intervall</a:t>
            </a: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ulige unntaksvise avvik på ett kort eller 2Hp eller mer skal alltid markeres på korte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5CF-0666-483C-A512-77265614E6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32216-A587-44D8-A243-AD07D701B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sykiske meldinger / Referanselitteratu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nkelte makkerpar bruker psykiske meldinger eller andre avvik fra systemdeklarasjonen så ofte at de reelt er del av makkeravtalen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like makkeravtaler skal føres på systemkortet, og de er underlagt reglene dersom de er HUM eller HUK. 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TL bør tilkalles når det har forekommet psykiske meldinger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systemkortet er basert på en mer omfattende systemdeklarasjon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bok eller lignende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bør referanse til denne skrives på kortet, slik at spørsmål om feil melding/feil forklaring lettere kan utredes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3F5-3738-4519-8E36-F9A056BB27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FC55-1480-4EFE-AC2D-3F562B7F4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siden av systemkortet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Alle plikter å  kjenne opplysningene på forsiden av motpartens systemkort. Det skal gi informasjon om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unnsyste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andåpningens styrkeintervall, mulige fordelinger samt svarene på 2 trinnet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Hvor langt 2 over 1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Åpning i minor og senere melding av minor som kan gjøres på trekortsfarg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rut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Doblingers betyd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Spillkonvensjoner og signal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3D2-B55F-45CE-A3C4-1AD43A4EA0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7A604-4095-40B5-A2CE-16DB1F90A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er om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håndsutfylte 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BF vil forhåndsutfylle et systemkort for et svært enkelt naturlig system.. Dette systemet skal brukes av spillere som ikke har fullstendig utfylt kort, inntil et eget kort er utfyl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ruk av systemkort under spille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pillerne har anledning til å studere motpartens systemkort når de er i tur for å melde eller spille, men ikke sitt eg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ersom arrangøren med utdelte kort har fastsatt turneringens system(er), så har spillere lov til å studere også sitt eget systemkort. Det samme gjelder spillere som av turneringsleder er pålagt å spille med forhåndsutfylt kor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Kurs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ybegynnere med kurssystemkort som er påført navn og utstedelsesdato og er signert av kursets ansvarlige, kan studere sitt eget systemkort under meldingsforløpet i alle turneringer i inntil 1 år fra datoen på kort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D19-7D9A-47F2-9E99-FFD2759A72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E04B1-F57D-406F-A53A-8E3737F06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ølgen av avvik fra systemkortets beskrivelse av meldinge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vvik fra systemkortets grenser for styrke og fordeling for en melding, kan være en skjult makkeravtale og er derfor et mulig brudd på reglen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"Strekking av grensene" etter en bridgemessig vurdering er ofte egentlig en endring av systemet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avvik kan medføre justert score, prosedyrestraff og pålegg om å rette systemkort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idgemessige vurderinger bør godtas som grun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avviket ikke er på mer enn 1 poeng i parets poengsystem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 avviket ikke er på mer enn  et kort i en fargelengd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inste fargelengde i åpning eller definerte innhopp skal være rikti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”avvik” må ikke brukes til å overskride viktige grenser som f.eks ”en konge eller mer mindre enn en gjennomsnittshånd”, ”kort farge – lang farge”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t utilsiktet avvik fra systemkortets beskrivelser, f.eks p.g.a feiltelling eller lignende, skal ikke straff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A80-FCBC-461A-A584-1220C4F62C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97296-67CE-4D93-B809-BE72C9C828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ksempler på reaksjon fra T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forekommet et avvik fra poenggrenser, avviket bringer ikke systemet ut av den aktuelle systemkategorien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rettes. Spillet kan bli justert dersom motparten er skadelidende. Prosedyrestraff vurder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er registrert et avvik som betyr at systemet etter avviket skal plasseres i en annen kategori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Makkerparet må enten rette systemkategorien eller endre bruken av den aktuelle meldingen. Spillet kan bli justert dersom motparten er skadelidende. Prosedyrestraff tildel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En melding som er deklarert som 11-19 , blir avgitt på en hånd med 9 Hp. Det blir forklart at meldingen unntaksvis kan vise ned till 8 Hp og opp til 21 Hp avhengig av fordeling og kvalitet på de andre korten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TL pålegger at poeng rettet til 11(8) - 19(21), tildeler prosedyrestraff for ufullstendig systemkort og justerer spillet hvis motparten er skadelidende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CFF-A60A-44D6-BD04-B4048FD059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72D8-5A5B-41CA-9DAF-F2AE3797B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0:17:38Z</dcterms:created>
  <dc:creator>Per Nordland</dc:creator>
  <dc:description/>
  <dc:language>en-US</dc:language>
  <cp:lastModifiedBy>Per Nordland</cp:lastModifiedBy>
  <dcterms:modified xsi:type="dcterms:W3CDTF">2002-03-30T18:07:18Z</dcterms:modified>
  <cp:revision>2</cp:revision>
  <dc:subject/>
  <dc:title>Regler for bruk av systemkort</dc:title>
</cp:coreProperties>
</file>